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14EB8E-24E0-41F9-8A7F-61CC46D9E4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3F3ABC7-33F3-488E-A041-ACE8925E25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3BF7394-11D9-4B19-92EF-F4E1DC13D9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34F2C91-5101-4454-9750-E06B39DDE3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3799595-8DCC-4A48-8C73-46DB85055B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F64FB61-E02F-4855-97C6-6E22C933EF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DD4E393-DCAC-4F4A-875B-43E619F8F8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8D79324-CF7D-4E6B-BAD8-7777399173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71E46CC-86E8-42A7-B1FA-4C60422DE9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6EE154A-22AD-42FA-89DD-80F3A8E224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E1F1CA4-3998-44A1-B11B-E35A26DDE6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922BAD2-0CE8-4280-86BE-E068498113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40722-31F8-459D-8FFE-D07A084B5FC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ffff"/>
                </a:solidFill>
                <a:latin typeface="Verdana"/>
                <a:ea typeface="宋体"/>
              </a:rPr>
              <a:t>第二章  </a:t>
            </a:r>
            <a:br>
              <a:rPr sz="4000"/>
            </a:br>
            <a:r>
              <a:rPr b="1" lang="zh-CN" sz="4000" spc="-1" strike="noStrike">
                <a:solidFill>
                  <a:srgbClr val="ffffff"/>
                </a:solidFill>
                <a:latin typeface="Verdana"/>
                <a:ea typeface="宋体"/>
              </a:rPr>
              <a:t>  护士的素质和行为</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62728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沟通的含义  沟通是信息发送者遵循一系列共同规则，借助一定媒介将信息发给信息接收者，并通过反馈以达到理解的过程。沟通的根本目的是传递信息，信息的传递过程就是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沟通的类型   任何沟通都是一种信息发送者和信息接收者“双方”之间的交流和联络。根据沟通“双方”的属性不同，沟通可以分为：人与人之间的沟通；人与机械的沟通；机械与机械的沟通。</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际沟通的含义  人际沟通是指人们运用语言或非语言符号系统进行信息交流沟通的过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沟通的类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语言沟通和非语言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正式沟通和非正式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纵向沟通和横向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单向沟通和双向沟通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告知型沟通和说服型沟通　</a:t>
            </a: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55564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有效人际沟通的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真诚的态度</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尊重他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给予温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明确的目的性</a:t>
            </a: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84292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fontScale="67000"/>
          </a:bodyPr>
          <a:p>
            <a:pPr marL="229680" indent="-2296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促进有效沟通的一般技巧</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全神贯注 </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参与 </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倾听</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核对</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反应</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沉默</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提问</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fontScale="62000"/>
          </a:bodyPr>
          <a:p>
            <a:pPr marL="212400" indent="-2124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影响沟通的因素</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信息发出者和信息接收者个人因素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环境因素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不当沟通方式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突然改变话题</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主观判断或说教</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虚假的或不适当的保证</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急于陈述自己的观点或迅速提出结论或解答</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不适当地引用一些事实</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5"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一）治疗性沟通的概念与特点</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治疗性沟通是一般性沟通在护理实践中的具体应用，其目的是帮助服务对象进行身心调适，由疾病状态向健康方向发展。治疗性沟通的特点有：</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以患者为中心 </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以目标为导向 </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沟通的发生不以人的意志为转移</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195280" y="25056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fontScale="85000"/>
          </a:bodyPr>
          <a:p>
            <a:pPr marL="291600" indent="-291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二）治疗性沟通的主要目的</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建立一个互相信任的、开放的良好护患关系，为提供有效的护理奠定基础。</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收集有关资料，为护理提供必要的依据。</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与患者共同商讨健康问题和护理措施，取得患者合作，共同努力达到预期目标。</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提供给患者必要的健康知识和相关信息，促进患者提高自我护理能力。</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提供心理社会支持，促进身心健康。</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三）治疗性沟通的分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指导性沟通　是指护士应用专业知识解答患者提出的问题，或者是护士围绕患者的病情阐明观点、说明原因、解释与治疗护理有关的注意事项及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非指导性沟通　属于商讨问题式的沟通，护患双方地位平等。</a:t>
            </a:r>
            <a:endParaRPr b="1" lang="en-US" sz="28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准备与计划阶段    为了会谈的成功，护士在每次交谈前都应该进行细致周密的准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患者的基本状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明确交谈的目的及书写会谈提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选择合适的会谈时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做好环境的准备</a:t>
            </a: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交谈开始阶段   护士初次与患者接触时首先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 有礼貌地称呼对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主动介绍自己</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 说明此次与患者交谈的目的和大约所需的时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 帮助患者采取舒适的体位，以便减少不利于交谈的因素</a:t>
            </a:r>
            <a:endParaRPr b="1" lang="en-US" sz="2800" spc="-1" strike="noStrike">
              <a:solidFill>
                <a:srgbClr val="8ac8de"/>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492360" y="304560"/>
            <a:ext cx="1943280" cy="531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197000"/>
            <a:ext cx="8610480" cy="50515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描述护士素质的内容。</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解释素质、沟通、治疗性沟通的概念。</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陈述有效人际沟通的原则及影响因素。</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描述常用的沟通技巧。</a:t>
            </a:r>
            <a:endParaRPr b="1" lang="en-US" sz="2800" spc="-1" strike="noStrike">
              <a:solidFill>
                <a:srgbClr val="8ac8de"/>
              </a:solidFill>
              <a:latin typeface="Verdana"/>
            </a:endParaRPr>
          </a:p>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能力：</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能根据护士职业仪表要求，规范仪表和行为。</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能应用人际沟通技巧，进行沟通和交流。</a:t>
            </a:r>
            <a:endParaRPr b="1" lang="en-US" sz="2800" spc="-1" strike="noStrike">
              <a:solidFill>
                <a:srgbClr val="8ac8de"/>
              </a:solidFill>
              <a:latin typeface="Verdana"/>
            </a:endParaRPr>
          </a:p>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素质：</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在专业实践活动中，具备良好的护理职业素质。</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700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交谈进行阶段   在交谈过程中，护士应牢记以患者为中心的原则，鼓励患者交谈。</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指导性交谈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非指导性交谈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提出问题</a:t>
            </a: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62728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交谈结束阶段  良好的结束和开端一样重要。结束时应注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结束时间的控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简明扼要地总结所交谈的重点内容，核实记录的准确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 约定下次交谈的时间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对患者的合作表示满意和感谢</a:t>
            </a:r>
            <a:endParaRPr b="1" lang="en-US" sz="28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84292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士素质的含义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一）护士素质的含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素质是指人的一种较稳定的心理特征。包括先天素质和后天素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的“素质”是指护士应该具备的职业素养，是胜任护理工作所具备的基本条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士素质的含义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素质的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思想品德素质  思想品德素质是指导护士从事护理工作的最基本保障。</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科学文化素质　现代护理学发展要求护士具备自然科学、社会科学、外语及计算机应用等文化素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专业素养　作为现代护理工作者，应掌握扎实的基础医学知识、临床医学知识、基础护理及专科护理的理论知识及技能，具有一定的预防疾病、健康保健知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5" name=""/>
          <p:cNvSpPr txBox="1"/>
          <p:nvPr/>
        </p:nvSpPr>
        <p:spPr>
          <a:xfrm>
            <a:off x="304560" y="1371240"/>
            <a:ext cx="88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的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护士的语言行为规范  护理专业用语的要求如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语言的规范性：言语要清晰、温和，措词要准确、达意</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语调要适中</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交代护理意图要简洁、通俗、易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语言的情感性：护士应满腔热忱地面对患者，将对患者的爱心、同情心和真诚相助的情感融化在语言中。</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语言的保密性：护士必须尊重患者的隐私权，对患者的隐私如生理缺陷、性病等要保密，患者不愿陈述的内容不要追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842920" y="404640"/>
            <a:ext cx="56782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8" name=""/>
          <p:cNvSpPr txBox="1"/>
          <p:nvPr/>
        </p:nvSpPr>
        <p:spPr>
          <a:xfrm>
            <a:off x="103320" y="1125000"/>
            <a:ext cx="8843760" cy="5194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的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的非语言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倾听：在倾听过程中，要全神贯注、集中精力、注意听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面部表情：表情常清楚地表明人的情绪，能迅速而真实地反映各种复杂的内心活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皮肤接触：皮肤接触与心理状态有着密切的关系，抚摸对一般患者来讲，是一种无声的安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沉默：在一定的情景下，护士可以用沉默表示关心、尊重、同情和支持，起到此时无声胜有声的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衣着服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服是护士工作时的专用服装，它代表护士的形象，是白衣天使的象征。着装具体要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护士服应整齐清洁，型号适宜，衣扣扣齐。</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帽应平整洁净。戴燕帽时，长发应梳理整齐，于脑后，发饰要素雅；短发要求前不遮眉、后不搭肩、侧不遮耳。燕帽应戴正戴稳，用同色发卡固定于帽后。</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护士鞋样式简洁，以平跟、软底为宜，颜色以白色或乳白色为佳。</a:t>
            </a:r>
            <a:endParaRPr b="1" lang="en-US" sz="2800" spc="-1" strike="noStrike">
              <a:solidFill>
                <a:srgbClr val="8ac8de"/>
              </a:solidFill>
              <a:latin typeface="Verdana"/>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仪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的仪容应端庄、整洁、稳重，修饰应适度，保持自然美；有时根据需要施以淡妆，以自然、清新、高雅、和谐为宜，可以增添职业的风采，使患者感到亲切、和蔼、可信，切忌浓妆艳抹。应经常修剪指甲，不可染甲，也不宜戴戒指和手镯。“质于内而形于外”。保持良好的仪容是护士维护自身形象和护理职业形象美的关键。</a:t>
            </a: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700360" y="404640"/>
            <a:ext cx="56786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姿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在工作中的姿态应体现文明、优雅、敬人的原则。规范美观、自然大方、得体适度的姿态，是护士精神面貌的外在体现，是一种无声的语言，也是护理工作中重要的沟通方式之一。护理工作中常见的姿态包括站姿、坐姿、行姿、端治疗盘、持病历夹、推治疗车等。</a:t>
            </a:r>
            <a:endParaRPr b="1" lang="en-US" sz="28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4T10:18:34Z</dcterms:modified>
  <cp:revision>10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